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58C-A477-4340-A6F7-69E36C0F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532-1EBE-43CA-BAC1-35CC0B80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3218-37D9-488B-8382-5B87C0FB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BDE-9402-4C63-ABFD-3B94EB25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04B-7F0B-4A70-AEC2-3F77FE9B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724-9F32-4F4A-B29C-3204D876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7CB-B8AB-4ECF-B4FF-1F41BFB6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93D-8F22-40A5-A97D-423A6A23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C04-07B2-4785-8447-5FEEB36A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099-AF2E-437E-865E-61FCAB3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94D9-70ED-43EA-B288-7453FBC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D25-BE06-4553-8503-C6A44D8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6688-60C3-432A-B1ED-82BD1DB57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ниверзитет у Крагујевц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акултет медицинских нау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новне струковне студије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иохем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вна јединица 3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000000"/>
                </a:solidFill>
                <a:latin typeface="Calibri"/>
              </a:rPr>
              <a:t>Угљени хидрати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C:\Users\Radica\Downloads\unlogo.png"/>
          <p:cNvPicPr/>
          <p:nvPr/>
        </p:nvPicPr>
        <p:blipFill>
          <a:blip r:embed="rId1"/>
          <a:stretch/>
        </p:blipFill>
        <p:spPr>
          <a:xfrm>
            <a:off x="457200" y="304920"/>
            <a:ext cx="1428840" cy="1724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Users\Radica\Desktop\Logo_FMN_256.png"/>
          <p:cNvPicPr/>
          <p:nvPr/>
        </p:nvPicPr>
        <p:blipFill>
          <a:blip r:embed="rId2"/>
          <a:stretch/>
        </p:blipFill>
        <p:spPr>
          <a:xfrm>
            <a:off x="7070760" y="317520"/>
            <a:ext cx="15606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Оксидативна декарбоксилација пирув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олико у ћелији има кисеоника, у процесу који се назива оксидативна декарбоксилација пирувата, од сваког молекула пирувата добијамо по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дан молекул ацетил-коензима 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дан молекул угљен-диоксид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ош један молекул редукованог коензим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DH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ебсов цикл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цетил-коензим А се у митохондријама разграђује у процесу који се зове Кребсов цикл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ебсов циклус чини серија узастопних реакција код којих је производ последње реакције (оксалацетат) истовремено и супстрат за прву реакцију (оксалацетат и ацетил-коензим А дају цитра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ребсов циклу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 регулаторна ензима Кребсовог циклуса су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итрат-синтаз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зоцитрат-дехидрогеназ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лфакетоглутарат-дехидроге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ликом разградње сваког молекула ацетил-коензима А се добија по 10 молекула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упно се приликом потпуне разградње једног молекула глукозе у присуству кисеоника добија нето 30 молекула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АТ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52280" y="2057400"/>
          <a:ext cx="8915400" cy="45720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  <a:gridCol w="297180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ц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та се добиј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ко је то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иколи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→ 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DH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ативна декарбоксилација пирувата (x2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ебсов циклус (x2)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→ 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DH+H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DH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ТР-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поновање енерг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ада се ћелије „засите“ енергијом, тј. када се синтетише довољно </a:t>
            </a:r>
            <a:r>
              <a:rPr b="0" i="1" lang="sr-RS" sz="30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 у ћелијама, сав вишак молекула глукозе се депону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Глукоза се у ћелијама депонује прво у облику полисахарида гликогена, а касније, када се и депои гликогена напуне и у облику триацилглицерола (простих масти) за шта практично не постоји ограничење у количини која ће се депоновати у организ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г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лисахарид изграђен из молекула глуко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оцес синтезе гликогена се назива гликогенеза, а процес разградње гликогена се назива гликогеноли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ерве гликогена из јетре могу трајати до 24 часа након узимања хране, а у свакодневним околностима се троше значајно бр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Регулација метаболизма гликог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сулин делује на регулаторни ензим задужен за гликогенезу тако што га активира, односно гликоген-синтаза под дејством инсулина постаје активна и уграђује молекуле глукозе у глик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лукагон активира гликоген-фосфорилазу и тиме поспешује разградњу гликогена, односно гликогеноли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гулација глик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 тај начин глукагон може деловати на јетру да повећа гликемију, тако што ће се у ћелијама јетре гликоген разградити до молекула глукозе који могу напустити јетру, ући у крвоток и довести до скока концентрације глукозе у кр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 термином метаболизам, подразумевају се све хемијске реакције у нашем организ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де је енергиј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ТП је „основна енергетска мо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гљени хидра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гљени хидрати су молекули чија је основна улога у исхрани, производња метаболичке енерг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дељени су на моносахариде (глукоза, фруктоза, галактоза), дисахариде (сахароза, лактоза) и полисахариде (скроб, гликоген, целуло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кроб и глук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ва најзначајнија угљена хидрата су скроб, који је најзаступљенији угљени хидрат у нашој исхрани и глукоз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157px-Alpha-D-Glucopyranose"/>
          <p:cNvPicPr/>
          <p:nvPr/>
        </p:nvPicPr>
        <p:blipFill>
          <a:blip r:embed="rId1"/>
          <a:stretch/>
        </p:blipFill>
        <p:spPr>
          <a:xfrm>
            <a:off x="3733920" y="3714840"/>
            <a:ext cx="1571400" cy="1695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653640" y="54975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олекул гл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рење угљених хид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цес варења угљених хидрата започиње још у усној дупљ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желуцу, долази до даље разградње скроба под дејством хлороводоничне киселине желудачног с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јвећи део скроба разграђују ензими панкреаса, односно панкреасна амил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Варење угљених хид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дисахариде и олигосахариде делују ензими који се зову дисахаридазе и олигосахаридазе и разграђују их до моносахари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лазак глукозе из црева у крв након оброка доводи до повећања концентрације глукозе у крви, а то је главни стимулус за лучење инсулина из панкре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цес којим се један молекул глукозе разграђује до два молекула пирогрожђане киселине (пирувата), одвија се у цитоплазми ћелија и назива се гликоли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з од 10 ензимски катализованих хемијских реак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гулаторни ензими гликоли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ксокиназа (глукокиназа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осфофруктокиназа 1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ируват кин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ључни регулаторни ензим (eng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ate-limit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гликолизе је фосфофруктокиназа 1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Гликоли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 крају процеса гликолизе, од сваког молекула глукозе добијамо п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пирувата (пирогрожђане киселине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</a:t>
            </a:r>
            <a:r>
              <a:rPr b="0" i="1" lang="sr-RS" sz="28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2 молекула коензима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ADH+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то добитак од једног молекула глукозе у анаеробним условима (када нема кисеоника) само 2 молекула 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АТР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1T17:53:23Z</dcterms:created>
  <dc:creator>М</dc:creator>
  <dc:description/>
  <dc:language>en-US</dc:language>
  <cp:lastModifiedBy>KC KG Lab</cp:lastModifiedBy>
  <dcterms:modified xsi:type="dcterms:W3CDTF">2020-10-01T07:59:44Z</dcterms:modified>
  <cp:revision>8</cp:revision>
  <dc:subject/>
  <dc:title>Slide 1</dc:title>
</cp:coreProperties>
</file>